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9A0-E8E9-4476-9A8B-FC877339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8B05-F437-4C0F-8C47-FE70C478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8AA7-F2B4-4A16-8335-BBF0F722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4184-A1E0-4F88-A414-40C4F73A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3951-18EE-4D3A-A459-B44A6F9A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F06A-876E-4D84-BE86-7A46F61C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8764-5875-4CA9-84CA-B1394B78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949-1364-4A50-834C-4CDC3698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3C72-02C9-4D06-9DE1-5E341E6C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E826-1DC3-4A91-9608-B8F1EFC9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D8C0-991B-46FB-BDEC-064D3A31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94F5-5CE6-4D03-A77C-615207F7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4517-5404-4F10-828A-F4223CA33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Рисунок 23" descr="G:\для сайта работы\эмблема\Эмблема круг.png"/>
          <p:cNvPicPr/>
          <p:nvPr/>
        </p:nvPicPr>
        <p:blipFill>
          <a:blip r:embed="rId2"/>
          <a:stretch/>
        </p:blipFill>
        <p:spPr>
          <a:xfrm>
            <a:off x="8532720" y="6254640"/>
            <a:ext cx="611280" cy="60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hkola-abv.ru/" TargetMode="External"/><Relationship Id="rId3" Type="http://schemas.openxmlformats.org/officeDocument/2006/relationships/hyperlink" Target="http://shkola-abv.ru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Девочки попали под дождь"/>
          <p:cNvPicPr/>
          <p:nvPr/>
        </p:nvPicPr>
        <p:blipFill>
          <a:blip r:embed="rId1"/>
          <a:stretch/>
        </p:blipFill>
        <p:spPr>
          <a:xfrm>
            <a:off x="3564000" y="260280"/>
            <a:ext cx="5184720" cy="641664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43" name="TextBox 4"/>
          <p:cNvSpPr/>
          <p:nvPr/>
        </p:nvSpPr>
        <p:spPr>
          <a:xfrm rot="16200000">
            <a:off x="-678600" y="2630880"/>
            <a:ext cx="61930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Работа с текст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«До первого дождя» В.Осее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79280" y="333360"/>
            <a:ext cx="882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Таня и Маша были очень дружны и всегда ходили в детский сад вместе. То Маша заходила за Таней, то Таня за Машей. Один раз, когда девочки шли по улице, начался сильный дождь. Маша была в плаще, а Таня в одном платье. Девочки побежа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ними свой плащ, мы накроемся вместе! — крикнула на бегу Та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Я не могу, я промокну! — нагнув вниз голову с капюшоном, ответила ей Маш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 детском саду воспитательница сказа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ак странно, у Маши платье сухое, а у тебя, Таня, совершенно мокрое, как же это случилось? Ведь вы же шли вмест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 Маши был плащ, а я шла в одном платье, — сказала Та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Так вы могли бы укрыться одним плащом, — сказала воспитательница и, взглянув на Машу, покачала голов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идно, ваша дружба до первого дождя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е девочки покраснели: Маша за себя, а Таня за Маш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В. Осее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2711160" y="0"/>
            <a:ext cx="31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До первого дожд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217800"/>
            <a:ext cx="8388360" cy="606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Ответь на вопросы, выполни зад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.Определи  жанр произве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) рассказ         б) сказка       в) стихотвор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.Куда направлялись девочк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)шли в магазин игрушек 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) шли на прогулку   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) шли в детский са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.Изменилась ли погода, пока девочки шли по дороге, и как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) да, внезапно начался дожд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)да, внезапно началась гр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) нет, весь день светило яркое солнышк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250920" y="433800"/>
            <a:ext cx="8605800" cy="606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.У кого из героев был плащ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) у воспитательницы      б) у  Тани    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) у  Маш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.Что можно сказать о дружбе девочек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) девочек нельзя считать настоящими подруг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) девочки всегда во всём помогают друг друг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) между Таней и Машей — настоящая друж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.Какая пословица или поговорка подходит к данному текст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) Семеро одного не ждут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)Друг познаётся в беде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) После дождичка в четвер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324000" y="501840"/>
            <a:ext cx="8496000" cy="52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.Чему удивилась воспитательниц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8.Почему рассказ называется: «До первого  дождичка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________________________________        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9.Почему покраснела Маш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0.Выпиши из текста предложение, в котором говорится о том, что предложила Таня своей подруге, когда начался дожд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79280" y="416160"/>
            <a:ext cx="846000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1.Расположи  фразы  из  текста логической   последовательности. Пронумеруй   предложения.                                                                                    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___ Обе    девочки  покраснели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___ Таня  и  Маша  были  очень   дружны ...  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___ В детском саду воспитательница сказала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179280" y="4081680"/>
            <a:ext cx="81378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2. Сформулируй  и  запиши   главную  мысль   текста.  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icture background"/>
          <p:cNvPicPr/>
          <p:nvPr/>
        </p:nvPicPr>
        <p:blipFill>
          <a:blip r:embed="rId1"/>
          <a:stretch/>
        </p:blipFill>
        <p:spPr>
          <a:xfrm>
            <a:off x="468360" y="260280"/>
            <a:ext cx="8286840" cy="316872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52" name="Rectangle 3"/>
          <p:cNvSpPr/>
          <p:nvPr/>
        </p:nvSpPr>
        <p:spPr>
          <a:xfrm>
            <a:off x="2050920" y="5385960"/>
            <a:ext cx="50421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imes New Roman"/>
                <a:ea typeface="Calibri"/>
              </a:rPr>
              <a:t>Сайт  Елены Берюховой  «Школа АБ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3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hkol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b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s://vk.com/shkola_ab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1-07T08:54:23Z</dcterms:created>
  <dc:creator>Елена Берюхова</dc:creator>
  <dc:description/>
  <dc:language>en-US</dc:language>
  <cp:lastModifiedBy>Берюхов</cp:lastModifiedBy>
  <dcterms:modified xsi:type="dcterms:W3CDTF">2025-01-09T15:41:03Z</dcterms:modified>
  <cp:revision>6</cp:revision>
  <dc:subject/>
  <dc:title>Слайд 1</dc:title>
</cp:coreProperties>
</file>